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CB1-0DC6-491D-9033-25E43A5D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58D-701B-484B-9995-549079A2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C43-E58C-4BF8-AD17-175B06A7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5EE-BFB9-4975-8960-71846B38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A60-7C2A-49DF-A56D-F44F8261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8D3-729B-4168-A1B5-D9DADA53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47D-B403-45BF-8B42-9D37B65C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11B-F8C9-47C5-8BE1-D361F417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14A-39B8-4B60-B734-B6352D70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73D-9037-421B-8967-4B5E059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391-BEFE-4D47-BD82-E5E97CA4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302-E8E9-4E5F-890B-E29331A5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AD44E-72E6-4C9F-841D-61C17D86A8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89617-2101-4DEA-BE19-ABA34293D6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OVER-Y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file is supplied, free of charge, by ICONDA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can be downloaded from http://www.icon9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ease refer to the above site for information on how to use the DISCOVER-Y to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554880" y="4824360"/>
            <a:ext cx="2589120" cy="2033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1: Questions to ex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ell me about your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ell me about you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 is your roadm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 is the pr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en will it be availa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6573960" y="4824360"/>
            <a:ext cx="2550960" cy="2033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2: Our relation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lient's knowledge and impressions of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upport that client expects or requ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business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roduct life cycle/ suppl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554880" y="4824360"/>
            <a:ext cx="2589120" cy="2033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3: About th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lient's main areas of expert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 they insource and what they outsour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lient budget [constraints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lient quality [needs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lient's main challenges at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573960" y="4824360"/>
            <a:ext cx="2550960" cy="2033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4: Their relationsh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lient partner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lient economic questions [funding sources etc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Outsource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554880" y="4824360"/>
            <a:ext cx="2589120" cy="2033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5: Other people and or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lient's main customers and the markets they add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New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Geographical extent of bus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573960" y="4824360"/>
            <a:ext cx="2550960" cy="2033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6: Others and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st important thing for the client's custo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6618240" y="4824360"/>
            <a:ext cx="2462400" cy="2033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7: Projects, techno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current solution used by the cl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peting technologies in the client's market seg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otential savings in non-core aspects of the client's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573960" y="4824360"/>
            <a:ext cx="2550960" cy="2033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Zone 8: Their opinions, needs,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Relative importance and cost of elements in the client's current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positive and negative points about the client's current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reasons that the client may change from their current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554880" y="4824360"/>
            <a:ext cx="2589120" cy="203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1: Questions to ex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6573960" y="4824360"/>
            <a:ext cx="2550960" cy="2033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2: Our relation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554880" y="4824360"/>
            <a:ext cx="2589120" cy="203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3: About th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573960" y="4824360"/>
            <a:ext cx="2550960" cy="2033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4: Their relationsh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554880" y="4824360"/>
            <a:ext cx="2589120" cy="203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5: Other people and or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573960" y="4824360"/>
            <a:ext cx="2550960" cy="2033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6: Others and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618240" y="4824360"/>
            <a:ext cx="2462400" cy="2033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7: Projects, techno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573960" y="4824360"/>
            <a:ext cx="2550960" cy="2033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Zone 8: Their opinions, needs,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2:54:15Z</dcterms:created>
  <dc:creator>Andrew Betts</dc:creator>
  <dc:description/>
  <dc:language>en-US</dc:language>
  <cp:lastModifiedBy>Andrew Betts</cp:lastModifiedBy>
  <dcterms:modified xsi:type="dcterms:W3CDTF">2015-03-24T14:41:54Z</dcterms:modified>
  <cp:revision>8</cp:revision>
  <dc:subject/>
  <dc:title>Zone 1: Info to have ready</dc:title>
</cp:coreProperties>
</file>